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A49-1DC0-40EC-ADC1-BE8D7706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699-F778-47D7-AD7B-AA716540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E54-A152-4572-BFAB-1C324730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E5C7-C106-4366-9339-48CB2B0A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719F-96DD-4994-A84C-195A9596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3E82-135F-4B87-B905-734A4937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3434-9B48-4831-B287-9EC1F31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4927-9949-4EBC-B77A-BE860535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2A54-60A5-4BFC-A577-BB91E47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93DA-C667-4EB7-973C-F50E6A91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38F1-4965-43F0-AB5B-1F3B5D3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24F-7476-4557-9514-136BD8C7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7A9C-439B-4F97-8C63-2108187F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F961-34AE-4ACC-B34B-C940986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577C-5CF1-4907-BE2C-249468EC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E194-B6C6-44D7-B5B5-FBC4AADB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F9EB-3D32-4115-BE4E-43F60E00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A4B-EA66-492F-9828-1DEC9586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665-AD11-4F21-B236-4EEF9791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64E5-3E9E-4A1D-8A1B-483D0410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7D4-89A3-4573-9985-5A9137D0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AA3-E1C6-4A06-840E-F5DFB821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263-B74D-4C55-A1FF-91191600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9D8-AC0C-4B68-BC2D-F4D0D759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23C8-89D6-409E-A4C3-A0F182D9339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775-9C63-4346-AD21-0E95F4C70A6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GeoFcgq_PlY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VVGMAhFxH9A" TargetMode="External"/><Relationship Id="rId3" Type="http://schemas.openxmlformats.org/officeDocument/2006/relationships/hyperlink" Target="http://www.youtube.com/watch?v=HJoyOl7_QBg" TargetMode="External"/><Relationship Id="rId4" Type="http://schemas.openxmlformats.org/officeDocument/2006/relationships/image" Target="../media/image13.pct"/><Relationship Id="rId5" Type="http://schemas.openxmlformats.org/officeDocument/2006/relationships/image" Target="../media/image14.pct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pter 2:  Economic System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urn right 1 mi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ditio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you need to k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05520" y="2743200"/>
            <a:ext cx="2133360" cy="141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52520" y="4489560"/>
            <a:ext cx="63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based on TRADITION…don’t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eople or Governme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k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2819520" cy="1743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667240" cy="200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49896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eople, no gov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05240" y="49752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gov’t, no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e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ught to sh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people power, some gov’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8120" y="3429000"/>
            <a:ext cx="27432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arkets roc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me 3 markets found in t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81952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1727280" cy="135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715000" y="2819520"/>
            <a:ext cx="184140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95640" y="4603680"/>
            <a:ext cx="49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where things are bought &amp;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makes it work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ch person does their own 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oes that do when we SPECIALIZ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else do we all d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 you buy banana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993240" y="5029200"/>
            <a:ext cx="67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youtube.com/watch?v=GeoFcgq_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HS-MCREEGER:Users:creeger_m:Desktop:_date_tree_climbing_in_a_Sahara_Oasi.mov" descr=""/>
          <p:cNvPicPr/>
          <p:nvPr/>
        </p:nvPicPr>
        <p:blipFill>
          <a:blip r:embed="rId3"/>
          <a:stretch/>
        </p:blipFill>
        <p:spPr>
          <a:xfrm>
            <a:off x="1527120" y="1395360"/>
            <a:ext cx="6097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 has more power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l-Mart is huge (2.1m employees &amp; $400b + in revenu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are you more powerful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MER SOVEREIGN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rket is a beautiful 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reath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sure first two sections are finis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about the gov’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entral gov’t has all th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de what? How? For who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924200" y="3276720"/>
            <a:ext cx="1554120" cy="2057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4120" y="3276720"/>
            <a:ext cx="1555560" cy="21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64680" y="41148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was the focus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VVGMAhFxH9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HJoyOl7_QB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676520" y="3200400"/>
            <a:ext cx="194292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572000" y="3200400"/>
            <a:ext cx="214164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HS-MCREEGER:Users:creeger_m:Desktop:_Nuclear_Weapons_Test-Castle-Bravo_15mt.mov" descr=""/>
          <p:cNvPicPr/>
          <p:nvPr/>
        </p:nvPicPr>
        <p:blipFill>
          <a:blip r:embed="rId6"/>
          <a:stretch/>
        </p:blipFill>
        <p:spPr>
          <a:xfrm>
            <a:off x="1527120" y="1395360"/>
            <a:ext cx="60976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4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problems aris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guns; no bu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ople d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is the workforce affected if everyone is guaranteed a job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about it from your perspe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rm 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is a PPC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can a PPC be used to help analyze decision maki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 INCENTIV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would you work har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happens when you always have a job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ba 1.8% unemployment (14t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$12,700 average inco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ada 6.1% unemploy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$40,200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vernment doesn’t roc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stem is inherently flaw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do as little as we need to to get 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aching to the cho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rm 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lain the difference between command and market econom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would you want to live i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od &amp; bad new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cally we have no market or command economies tod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count as mix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 people, part gov’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 in amount of gov’t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t in bo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 even we need some gov’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nk about the rec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now things are not going we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am Smith knew his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would happen without gov’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’d fall ap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else do they do for u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THINGS MARKET DOES NOT…HELP US WHEN WE FAL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all have to live, function, and survive together (ECONOMIC SYST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y in amounts of gov’t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MARKET, MORE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XT CHAPTER WE EXPLORE OUR SYSTEM FUR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cuss Marshmallow Man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pter 2 Intro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ver all of Chapter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ll have time at the end for extra credit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scuss M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sure to turn in your handou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ctiv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s trying to win a “special” priz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n by scoring the most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ups will receive 3 sheets of paper &amp; one pair of sciss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make any combo of the following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per footballs- 5 points ea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per cards- 3 points ea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umpled balls- 1 point ea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 PAPER MUST BE C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ollow 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a group, what did you do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did you have to figure ou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You just had o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ini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’s it mea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to mak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to make i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o gets i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e all do it…are we all the sam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solutely not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ffer in 7 goals we fav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d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urity &amp; predicta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qu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wth &amp; inno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iggest diff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in the 3 key ques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in 7 goals prefer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gest occurs in who has the pow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different options:  market, command, mixed, &amp; tradi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1:52:08Z</dcterms:created>
  <dc:creator>Lewisburg Area School District</dc:creator>
  <dc:description/>
  <dc:language>en-US</dc:language>
  <cp:lastModifiedBy>Lewisburg Area School District</cp:lastModifiedBy>
  <dcterms:modified xsi:type="dcterms:W3CDTF">2010-01-28T14:28:11Z</dcterms:modified>
  <cp:revision>12</cp:revision>
  <dc:subject/>
  <dc:title>Chapter 2:  Economic Systems</dc:title>
</cp:coreProperties>
</file>